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994525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F91FB-DC8C-4691-BA53-7DCA6E097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CBC24-1698-429E-AF36-E72355D2145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15313-D4CD-4E62-B02B-31AF621EB698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8D2F5-B415-4839-9D8C-0528D5BCC8A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6B172-CF57-41A3-B7C4-36B390547D7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34056-811E-47D0-B87E-B03A942F9A6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68937-458E-4F40-B82F-38FD28890B3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20DAA-39BB-43A9-AA89-58A159D48BB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3D11E-BC5D-4872-A8A4-5B6F8CE298F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FEA92-4C42-4C20-871D-99D325F9332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BD532-3543-4F1A-A6C7-54EEE9664DE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D2F5CB-FE91-4E91-A4D9-40F82BE37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57E10-2127-4CA7-8B07-52FABBDD5A0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FE8663-3577-4739-9DBF-0C8C0489D4F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39EDFC-677C-47B8-974E-A508B71E192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355377-F532-468D-A823-B19A2933E00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FE0938-5E34-46CA-B86A-8CEC5E858CC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8E7F28-A5C5-4A0E-8E64-E44AB0B1006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A8FADB-7E30-42FE-BC52-5DDC1C857CD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436F12-9716-48DF-9437-D3A95DDCA89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B41CA-330F-4348-9B78-6407E412A58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6A81D-74E7-438F-B6B4-A94AD4F9F2A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C6F530-784B-4FDD-82C0-45D84E290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C40D-CD19-450C-82A3-2B57FD4BD1D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0E2C7E-D8FE-4FCF-8FAA-9D468C2CFF5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BF5D8E-EE85-4132-9888-2D307108CCF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C5EFC4-CFE3-45BB-9CAF-DBE98BEF7F1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0A636D-1C82-43A0-9FF2-FC8EE39B4CD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FC8B6B-6BCD-4171-948D-8274480BFA6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ABEB40-360F-45A4-B357-1BCB032DC6D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6A8C61-2FC0-44BB-9FE3-0A3B35B1CB6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30B55CC-EECA-44B0-8C29-77A0ADD3663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5C90AE-B188-4F4C-AB12-C7C662E685D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F1DFD0-1662-4E98-BC84-CCDD01DF7B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5FA987-9DB8-421F-923F-737A4666DEB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7597ED-C8FD-4AE5-ACC8-0717B5497E3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097082-C587-4040-AA82-090BB93F08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9E9DAE-2513-4333-83AA-67F8A212F03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2ECBAC-1FCD-4CAA-AF4C-E64E3D52FAFC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7F79B-75A1-4808-9F76-A11064C95A7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4D588-3DEF-4D4A-AEE5-23B6BCD7DDE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53172-29AB-4894-8494-8D6549B834C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33E0AA-8EBC-4DAB-AA9F-4A72D547C33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05AF83-5AA8-484D-9161-E6B1DAEABF7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33F43-C210-44DF-8BAA-EFD413B308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EDC47-A6B3-4E90-B945-F9C0EBC3156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BE915-D93B-449C-BE6B-E859130E866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697E5-FA6F-4DE9-8800-EAB51788566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B8C95-5C85-496D-B21D-B74D9861090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7EDD6-35C1-419D-8B1D-D4C0ED9846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1C2E8-8126-4A95-8896-BC14C98200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B6A3B-3611-45C9-A896-C1CE9C0307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2C026-5295-4F9E-9D6C-ED190A772B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17A8E-6FD3-40D5-A8CD-B95E5F66A5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5BF4E7-966A-4081-954C-AE48D72DE7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420645-59A8-4D5A-98CC-24217990CC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C33D5-34EF-410E-A510-F11FB0415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CAC8A-665F-468B-BF22-7D7972A3D2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519C5-E72D-41EB-90DB-FAAB4AD288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1FF3A-138F-4766-B2A3-F9D7B05A5D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BFAEE-F8BB-4D2E-BED1-F603F376CE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C2C11-D076-496A-9BED-9680BFE2DE6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1865-3B94-4CFF-A1B4-F975A152EF4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AD570-B37B-4DB3-BD27-047ACFF550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F102D-9F8F-4782-B4AA-85C7C248000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762E-D416-4F61-8254-DEE9FFBF992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65C0-33E2-41C9-AE50-1BAA6AEA81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526F0-B88E-49E7-924E-6E6D9BCA579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9B2EE-894A-44AC-A873-2B61D145882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9E0D-95E5-4046-9EB5-EC8AAB3B281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DB18-C440-4CFE-A5DC-B24B4B61BD0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F562-EE27-48AC-B50C-2FAE08EA149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9124-4B6B-45FD-AD0D-C847B38ADC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0242-DE9E-49AB-AB67-5997E88C18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C539-E8E6-4D7C-B2CC-968A21F79A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1357B2-738F-489E-8FE6-1F927BEEFC3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C1C0D5-EDEE-481C-9E83-9C508B606A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6B32FA-2EFA-4C82-8AE0-5E7241335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2B77D-4A13-4672-A226-1393477A4A6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9FD89-F619-4120-B8D4-D8F9A07869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CC5E02-F57A-45AC-B7C0-FEA5C63ADFA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104BE3-2369-4A17-A4D9-DE38EDFA553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E5094-A9CD-4687-AD8F-460A24A9776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DE1E76-246A-429E-82A6-17FAAC5FA7E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B09ED1-D8BE-4735-A091-23898D4FD03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1F678-2467-4AAD-8846-78C978BD4C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2D9AF-ED65-46CE-B0AF-CA87CA91AEC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9AE5D-673E-485E-8F1A-03FC281F749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9ECCAA-F504-4C69-B14E-3EE2822C6E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30694-0AB9-4D98-903C-5534E062DE6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EB199E-4D94-4291-BB95-D5C2E88BFCE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844E93-15D0-4D44-B69B-0B85C988F37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4268C3-F30E-4E8C-BD7A-D6CE1C15645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9DD2AB-A4BB-4220-963E-7FAD499DDA9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633CAC-845A-4972-9A3F-6B1C5C7407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FE84C6-6E36-4474-89DA-74EAF37BBB1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BAD2BD-B722-40E6-9A4C-FE59980995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B91010-265E-4830-B655-A8432527377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26C834-CF64-410B-A305-9E078209E10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868EC8-1ADE-46AA-9DF1-85B5CFA62A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2B888-0768-406B-BDD7-633E4C19F2E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ABA2DC-4E58-4462-8588-D32EDAFFD63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44104-A7FA-4A63-8EB9-9BEB8268EE2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4DF20-A647-4C9C-B630-D6F8E379D93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6EE14-E548-4F03-84C3-CD6D4DB6E8A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446B7-9DF6-4093-8CBA-8F5B061BB1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A3BAF-AC6D-489E-A6CE-9246321358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584D5E-410E-4129-90D6-4F3AC9F22CF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226B0-C10D-4527-8331-FEE04EF8682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28B63-A2FD-493A-8C01-6875584A736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2FD2C-0305-4C14-A9A2-82C1669060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E1B01-64D3-41B4-A459-E8583A03B60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44AB8-18E3-4507-A4B1-BD894A0A26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D2C08-A0C1-4532-BC5D-B2C269F8C56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31C7B-8471-4972-BD66-6B4D4D845DF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3E48ED-248B-4EAD-B6A6-FB728911F35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DBAAF3-199D-4583-8404-5995D778196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2F6649-0CDB-4F2D-8A7E-87C885D75CC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E083C-3C77-4842-A64D-686B2E0AAE1C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76EB0F-14D7-46FA-B15E-8D3F38B525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DB087-7EE0-4260-BC1A-409B02DD0D5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8562C-8E07-4F96-B5F4-8422D7A031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7A74-FF7E-44BD-9447-CABFBD5CF31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D7236-59BB-4567-BC23-C2F91F5358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28AE70-5C4A-48CE-842C-31D3683BC5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5060B-C7C6-4D89-A452-12A02A8FBC6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B05846-D444-4FB0-A96B-9DEE6FF77F7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7C37F8-CADE-4F38-B141-D0DBB810CD4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64DB35-44DD-441C-8B15-E0A68843B25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59A5B2-CA2D-4963-89C6-5A9A258194B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D8151B-0F36-48B5-BBF9-9765EC5A9F7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58D0ED-AB0B-4731-9391-CB448674EA9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E511C3-AFFA-4AD5-8374-80A4237C7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5628-5A32-4FEB-8222-47AE2C89A88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5AF647-D880-4385-A37F-1D1B3F4E8B7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DBFDA2-7CB0-4273-A8E9-D192E875AF2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7E4685-F66B-4723-894A-1A3E1D2DAB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4EA774-9443-4BE6-99C4-CF9BB428C14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85800" y="4030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0778E0-CCA9-40BD-B63A-0D4AD6CD6FE0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68480" y="4030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41C9AE-0C94-4404-9D19-830D3234EBE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85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31380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41440" y="4030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DBF0D0-AF75-4DB3-B4FD-CD1E44DA48B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5A50D-5849-4E54-B3C7-485F29417B3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ECE0B-0F31-4979-A0F4-170C0B429D6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C5FD9-0E43-45B2-A851-02E7E80ED4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B0C6-7A93-4E93-8A99-A3CB047A5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ftr" idx="1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sldNum" idx="2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D876-24F5-4713-9156-D0B1A54E8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1719-5185-4FD5-B573-537886ACE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ftr" idx="2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sldNum" idx="2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81DE-7E5B-4CC3-98F1-D4E285AD2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E8A2-E7EF-4146-A452-E7B566C7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02E7-271D-47C0-BD23-D53317880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AFF4F-6AF1-4D1C-B7AA-5E990EA55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9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0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2FFB-F6A9-4FF3-95AC-E0F7DFBA9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1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2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644E-834F-4331-9B1F-029080D1E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ftr" idx="13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4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C74D-5576-4E61-AF45-0447A2E5B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5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6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4B7C-9EC6-4194-BA90-78C51D6D8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685800" y="228600"/>
            <a:ext cx="32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6a02e"/>
                </a:solidFill>
                <a:latin typeface="Arial"/>
              </a:rPr>
              <a:t>Chapter 1: Introducing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Picture 8" descr="cprog2_spine.gif"/>
          <p:cNvPicPr/>
          <p:nvPr/>
        </p:nvPicPr>
        <p:blipFill>
          <a:blip r:embed="rId2"/>
          <a:stretch/>
        </p:blipFill>
        <p:spPr>
          <a:xfrm>
            <a:off x="685800" y="6350040"/>
            <a:ext cx="2666880" cy="49536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7"/>
          </p:nvPr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6a02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8"/>
          </p:nvPr>
        </p:nvSpPr>
        <p:spPr>
          <a:xfrm>
            <a:off x="4190760" y="640044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21D2-26B5-46F1-A92A-8AA531FE2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2EF8-46D5-40D0-B853-AA7DDD69D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hapter 1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609480" y="358092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ing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Origins of C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s a by-product of UNIX, developed at Bell Laboratories by Ken Thompson, Dennis Ritchie, and oth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mpson designed a small language named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was based on BCPL, a systems programming language developed in the mid-1960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0949-FB52-4F6B-A670-30DDFC1B0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Origins of C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1971, Ritchie began to develop an extended version of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called his language NB (“New B”) at fir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the language began to diverge more from B, he changed its name to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language was stable enough by 1973 that UNIX could be rewritten in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1B04-39A3-43FB-954D-DFAD942D8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Standardization of C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&amp;R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scribed in Kernighan and Ritchie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he C Programming Languag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1978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e facto standar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800" spc="-1" strike="noStrike">
                <a:solidFill>
                  <a:srgbClr val="000000"/>
                </a:solidFill>
                <a:latin typeface="Times New Roman"/>
              </a:rPr>
              <a:t>C89/C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SI standard X3.159-1989 (completed in 1988; formally approved in December 198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 standard ISO/IEC 9899:199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ternational standard ISO/IEC 9899: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ncorporates changes from Amendment 1 (1995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D7CA-03D3-4BEC-AC24-7DB5A8275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C-Based Languages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+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all the features of C, but adds classes and other features to support object-oriented program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based on C++ and therefore inherits many C fea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#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more recent language derived from C++ and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er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dopted many of the features of 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F332-7A4B-4B4D-9E22-B1194DABB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Properties of C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-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s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00C4A-3367-4301-9CB9-59837299F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Strengths of C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ation with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9F21A-E5AF-44E9-A925-BD5B2BDD0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Weaknesses of C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can be error-pro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can be difficult to understa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s can be difficult to modif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CFBC-F856-4573-ADB8-EA6836594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82f25"/>
                </a:solidFill>
                <a:latin typeface="Arial"/>
              </a:rPr>
              <a:t>Effective Use of C</a:t>
            </a:r>
            <a:endParaRPr b="0" lang="en-US" sz="3200" spc="-1" strike="noStrike">
              <a:solidFill>
                <a:srgbClr val="b82f25"/>
              </a:solidFill>
              <a:latin typeface="Arial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how to avoid pitfal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oftware tools 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ebuggers) to make programs more reli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advantage of existing code librar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opt a sensible set of coding conven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“tricks” and overly complex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ck to the stand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Footer Placeholder 3"/>
          <p:cNvSpPr/>
          <p:nvPr/>
        </p:nvSpPr>
        <p:spPr>
          <a:xfrm>
            <a:off x="5334120" y="636264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Copyright © 2008 W. W. Norton &amp;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6a02e"/>
                </a:solidFill>
                <a:latin typeface="Arial"/>
              </a:rPr>
              <a:t>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Slide Number Placeholder 4"/>
          <p:cNvSpPr/>
          <p:nvPr/>
        </p:nvSpPr>
        <p:spPr>
          <a:xfrm>
            <a:off x="4191120" y="6400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D6BD-97D6-42A0-AF83-5775C33B0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39:05Z</dcterms:created>
  <dc:creator>K. N. King</dc:creator>
  <dc:description/>
  <dc:language>en-US</dc:language>
  <cp:lastModifiedBy> </cp:lastModifiedBy>
  <cp:lastPrinted>1999-11-08T20:52:53Z</cp:lastPrinted>
  <dcterms:modified xsi:type="dcterms:W3CDTF">2008-06-08T23:12:21Z</dcterms:modified>
  <cp:revision>485</cp:revision>
  <dc:subject/>
  <dc:title>No Slide Title</dc:title>
</cp:coreProperties>
</file>