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73B2-BD71-4B1F-BE04-ACEDF550BB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711B-742B-4471-9E54-08C6F271237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3CAA3-D57A-4B94-8EB3-F2AAC41FFA0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CB676-490A-4FBB-B2C6-E67D111EA98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08658-A150-4A1F-90B6-C4C3891D9E6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737A2-2B8D-442A-A676-F9E1FE1D853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7E22A-5A1F-4BE7-AA21-4F03EA22603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6995-2D57-45AD-B876-349D146D862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720DC-5B42-49BF-8808-A0100AB47FB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36AD5-34E7-4072-82C5-D26978ED874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C4EE9-76FE-4CBF-AF4A-71CFDB0F9FE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379D8F-0A83-4C0F-8808-FB734A83C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1E88-E6ED-4D86-9F77-67C57C987A2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8137D4-4E8E-473A-A73A-3A71D8F504F3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B03C71-2849-413C-B70E-E019245C4CE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D4A34-FFCE-472F-A26D-5D49AC50C01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FF478-037C-43AE-AD3A-C78AD00D86D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CB2BAB-A581-4C6E-9A40-B2B2C783E5D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82E6F1-B499-4B2E-A9CD-DC8F06F4663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165589-F097-4E1E-A184-04DDA7EEECE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67374C-DC8C-4E3D-AD5D-5E657B22C3B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ADA65D-F8F2-45E3-BEA4-86BACA2FBA5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065065-4126-4DDF-B5C6-3F6376BA6E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F820-D1D5-4066-BAA9-75A92EEDB65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285937-D910-4A7E-BF5A-6EF4F77157F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0CCE8E1-63AC-45A2-BCAB-97CC93B6704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39150E-C130-4D31-B088-F3DFB8A4672F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BFE0EA-E7FB-40B7-B67E-7E342C1C065D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ED940-22C0-41C6-8847-C6909FBD5F2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7EB2E1-26ED-4894-AF61-A73C29EF484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878F41-57EE-447E-8288-81FF993A5C2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3A8699-EAB5-49D6-8CEE-D83201009B4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6B0BC6-B793-45BA-AEAC-1E7A3153AD6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1F0CB9-33B2-425D-8455-AC85DA559E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9DD55-7A71-4A55-AEAD-AAA531F1064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79F477-AFF5-497E-A4A2-AA99063E6B1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F0E43C-567C-4EEB-A7C8-B3C7933192B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544B76-A02E-4332-8102-22C1CDD5F61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91CF4-84D0-4F53-B296-DDF96404C46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271C6-B7EA-48AA-A798-F07B072EA7B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D8966B-1DE0-4270-ACAE-5EAD68AF5A6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46819-B01B-4112-84DF-508A3D96825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F4950-7E0E-46CC-B165-FDF31062E7D3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43279-3D88-49C7-85E8-D9307FBDA06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01772-2542-409A-8B65-A9C3A82F44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CAD15-5A38-4871-BE94-9BBE54E4E57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B4FA7-EEAF-4C2B-9503-58D98EFD6B9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831D7-25B3-4449-BFB4-8B6F64543DB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5B26A-3D7E-4A47-80AE-289A0FAB552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1D962-8C8E-4212-973C-CA11BC8A027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B6786-A8B4-46AC-9C13-E2566BE277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E1C97-72B6-4613-B4D6-C930A13DEA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CB4E8-2D72-4265-BAEF-98C80BEC1F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3419C-E768-4166-8A19-502E7D6F3E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8B260C-7642-428B-BC7E-12579B34DC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250A0-1FC8-4A67-9F66-64496DB09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3CC8B-3103-4112-A8CF-91013D2A8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217707-A899-4268-BE12-C36D3E17B71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4A71A2-636C-4C13-8083-57210494D0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8811B-8E39-4441-B992-295A9C5351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80FB67-E0E2-456F-B79D-E9B623A24C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FEA2A-1E2D-4F8A-99CC-90956DE29F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3E1FD-F0BD-4928-87F9-EA7D3342BD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85EE-BB67-4850-B1D8-7F7900D136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5EE6-FB43-4842-897C-7117391EE9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1D3C-7CD9-4DFC-8E2C-8606884F70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8088-E098-4036-8D82-B5E3902EDC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18EE0-6D8A-4B98-A5BD-0878B75B8D3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FA29-3CF6-4C9C-9A8D-6AE908B6B7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EBE0-374F-410C-BD74-462384A212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46A2-35A9-4B6C-A497-8AA24DAEB6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280B-7A8F-441A-BB00-9F78114467F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21F1-3F6A-4D6B-A709-8F583EE3769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63E9-B895-421D-89BD-72C976C628D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0527-2CA7-4743-AF95-E62102F3A60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D8392A-7939-4517-A444-DE8CF968F1D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E7E2EB-745F-44CE-987C-A67E14DAA2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3A7F6D-8338-4900-91E6-7750AC256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10825-A598-48EC-85C2-2EF60BF003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E394BA-F80C-4A86-B146-2E03C340041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13CF84-F7E0-49C8-BEC1-0A2E9FF4472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B175D-84F3-4BC5-A66F-9E68140A24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8CE89-9557-4FF4-9215-AF1F31E3550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D29047-48ED-41AB-8CBB-2F26519C87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B36EEB-0861-41E7-8B42-A1F45CB4F1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D036FC-5323-4E3A-B5D4-57ECB02FEBF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029770-84B1-4133-881C-B19EE150B9C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37C2C2-C0FA-4F3D-8533-E361943BCAE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5D76BC-7430-44A5-84CE-20B26CDC5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85BAD-4C9D-4411-9946-9CB2AC0E824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95CED7-251B-42BB-A56B-1C921A538DD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E60BE2-FD46-4559-9E47-AB7287D9CB2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AAE994-DC16-419C-9CEF-EFFABD3833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DF5C35-C1A2-4DF2-9DF3-5B49B924A53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45DBF6-7D12-49F5-89EA-5ECA246531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8B532-2085-4D47-A405-320A95F8851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695EFE-C168-4531-B022-E7794E18E63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AA4A4C-3D3F-4928-BF7F-3DC5B512F8A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607D81-ACB4-4D58-950A-F7AA10BFEA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F8AF67-C874-4AE4-991A-C71680FA6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F4208-B314-4ADA-AF21-3BA202A51AA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5B37B7-378A-4E14-99FB-005E48BF43A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B1B93-E4F8-40CA-8187-6D789889A87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504EE-B42E-40A0-8404-C8E75CBDF30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6DCCC-9F2D-4C5D-9151-A9EA05F7AE1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3BD0A-FE16-4690-A800-F01A54DDA41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13C57A-7F74-4FF9-860D-46A58A44165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30236-7841-4F05-B8CC-2F4B098D232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09BE-76FB-4E13-8078-4C26F819601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19A8B-04C1-4628-824E-DE431C22A93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FEA6A-0537-4C7E-B5DF-048E0590C5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6FE1-6BCA-47FB-A408-BDB7E46752C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849DE-F4B9-4162-A848-9745A292B2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76A61-ECE4-48DD-ADB7-115736E1932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F7BB4-A148-43C8-B842-9AEE5FC244E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4DBE0A-BF2C-43B1-9E25-90E6905AAE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987B1-7675-4D63-B604-F1ED0C32A49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2D8CB9-2A5E-470B-8A3E-DA3D2F9B31E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E741D-C9F6-4243-995D-C217D7DB5C9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CB66B-54BB-4915-B8F0-E3FE25B5443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BD8975-2141-47C2-B68F-B6A3A91D6AA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E009B0-8962-488B-BBAE-DBC3F0230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6A11-B2B9-4AA3-A97C-8825B8F7F9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5C886-59D7-4AB7-8DE1-64D90A5C02E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7FC39C-40C7-4510-BFC9-90EAD5A3BA9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D69FD5-DC0D-4A04-B3A8-3E43CC34F44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CEC995-929A-4A0B-B941-0C0F4328BC1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115F6-FE99-4731-991D-883EB5B05D6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8DEC2B-CACF-4EAC-A2DE-0DBD270D10F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FAF791-24F5-4A0E-96A3-CA2EDA02575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A80115-EF36-4328-B011-04FE41E8533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C925C6-5011-4356-9DFE-AB6A557BC87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552413-1D05-4666-B2DD-F7B4D2A8D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E0C6-FFB1-474B-A351-B0095659509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9BDFC3-C34D-4C94-822F-16BE5C831FB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E32096-093F-4D63-85D6-86CC6102E82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19C39F-D9EF-461D-9CE3-2F561386A42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80FF73-3268-4778-B68C-1827DC24F7A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D233FE-0E72-4BC2-87B8-CD81A2C1EA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907296-06E3-4D0E-AEB9-08535D7BF7E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31F992-3845-42B4-A08D-5977D431DB7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DB5EB-EFB4-4DA7-9521-E3800B727F5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2EF69-23A6-4C4B-ADAD-74BBFE78257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64C85-8ADC-4E41-8D98-D1F20BACC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C5C2-A2FA-4464-9FDE-E047465EC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9F31B-E485-4835-9334-9F0DABA9F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2C7E-4BCE-4B31-983A-D585E9B0F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5E75-F641-4341-B9B6-7A8F5EE5A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D500-B9BC-43B1-B207-90A6E9D88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8F74-D55E-4923-920C-276CBD943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4E04-0ABF-4666-A5DF-1A813B506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4993-B118-4290-99E7-2557D345E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12E2-34C3-4E63-A478-7AF7C0017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487B9-86CD-458D-9866-199833D66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BA30-768B-42AE-8962-4BC548676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2: C Fundamen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5557-BF0D-4695-AC60-7C98B53C2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9766-899D-43A6-B86A-62C77540B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hapter 2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Fundament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Directiv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a C program is compiled, it is first edited by a pre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s intended for the preprocessor are called directiv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dio.h&g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ea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ing information about C’s standard I/O libr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1BD8-89B6-4E0D-853D-36F36BAF8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Directiv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ves always begin with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ault, directives are one line long; there’s no semicolon or other special marker at the 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5403-E5CC-4663-BF9C-6F90B7CD7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Func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series of statements that have been grouped together and given a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ibrary functions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as part of the C implemen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unction that computes a value uses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to specify what value it “returns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AA20-5968-49E0-B249-6D98268EBB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Courier New"/>
              </a:rPr>
              <a:t>main</a:t>
            </a: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is manda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pecial: it gets called automatically when the program is execu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a status code; the value 0 indicates normal program termin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re’s n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 at the end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many compilers will produce a warning me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3A6F-5096-48C8-8ED4-E4D026873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State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ate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mmand to be executed when the program ru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n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s only two kinds of statements. One is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tement; the other is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unction c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ing a function to perform its assigned task i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l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fun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n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ll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isplay a str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o C, or not to C: that is the question.\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7DE0-E58D-4C50-AF0D-70663CE47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State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requires that each statement end with a semicol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’s one exception: the compound stat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ives are normally one line long, and they don’t end with a semicol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DC721-1CD5-4D8D-9C7D-5D7BB1D31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inting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 display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tring lite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—characters enclosed in double quotation marks—it doesn’t show the quotation mar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oesn’t automatically advance to the next output line when it finishes prin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dvance one line, includ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\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ew-line charac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n the string to be prin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F0D1C-1B7C-450F-899F-DCE30BE8C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inting String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5235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o C, or not to C: that is the question.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replaced by two call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o C, or not to C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hat is the question.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w-line character can appear more than once in a string liter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Brevity is the soul of wit.\n  --Shakespeare\n"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210D-C49E-48E6-826F-616FD23A2E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m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gins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*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end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*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This is a comment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 may appear almost anywhere in a program, either on separate lines or on the same lines as other program t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nts may extend over more than on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Name: pun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urpose: Prints a bad p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uthor: K. N. King */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67CD-49DD-4214-A498-212963526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22860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rning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getting to terminate a comment may cause the compiler to ignore part of your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My ");    /* forgot to close this comment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at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has ");   /* so it ends here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eas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3797-A21F-422F-BACC-739735F9D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ogram: Printing a Pu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152352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vo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o C, or not to C: that is the question.\n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program might be stored in a file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n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ile name doesn’t matter, but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tension is often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14C2-E0E4-40A8-9FA6-F73993133E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omments in C99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99, comments can also be written in the following w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is is a com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yle of comment ends automatically at the end of a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m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fer: there’s no chance that an unterminated comment will accidentally consume part of a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line comments stand out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979E-B923-4094-A080-CB49C36BE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Variables and Assignmen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rograms need to a way to store data temporarily during program execu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storage location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ari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A434-65EF-4EEF-B71E-72397DCC9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 variable must hav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has a wide variety of types, includ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hor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store a whole number such as 0, 1, 392, or –255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s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lue is typically 2,147,483,647 but can be as small as 32,76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0C99-6C3D-4511-AF3D-CE458005F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Typ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short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loating-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an store much larger numbers than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can store numbers with digits after the decimal point, like 379.125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backs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er arithme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nature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FB25-5E8F-4C3A-86A4-5913E18FD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Decla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must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clar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fore they are u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can be declared one at a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eigh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profi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several can be declared at the same ti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eight, length, width, volu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profit, los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D1DC-B10E-4714-A964-265CC90F4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Declarat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tains declarations, these must precede state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cla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99, declarations don’t have to come before stat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BFE3-8C15-446F-9C21-43C7D548B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can be given a value by means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ssignm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 = 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umb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a variable can be assigned a value—or used in any other way—it must first be decla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B0FB-1D12-462C-A7E1-7B266DF45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nstant assigned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usually contains a decimal poi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it = 2150.4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est to append the lette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a floating-point constant if it is assigned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it = 2150.48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iling to include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cause a warning from the compi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E694-28EA-4215-82F4-E4374A4DD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is normally assigned a value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is normally assigned a value of typ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ing types (such as assigning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 to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 or assigning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 to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) is possible but not always sa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98FD-3519-45FD-B212-9C64B3B80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Assignmen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variable has been assigned a value, it can be used to help compute the value of another variab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 = 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=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= height * length * wid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volume is now 960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ight side of an assignment can be a formula (or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xpression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C terminology) involving constants, variables, and operat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2907-BE9C-41DB-B815-5E1317DFC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ompiling and Linking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fore a program can be executed, three steps are usually necessar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process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process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eys commands that begin with # (known a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irecti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pil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ranslates then translates the program into machine instructions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ject 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nking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ink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bines the object code produced by the compiler with any additional code needed to yield a complete executabl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eprocessor is usually integrated with the compil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7950-9931-4C58-AB85-57DE63532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inting the Value of a Variab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to display the current value of a vari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rite the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current value of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, we’d use the following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Height: %d\n", he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%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placeholder indicating where the valu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o be filled 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56884-3E25-43D1-9B18-EB8145DE3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inting the Value of a Variab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%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orks only f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; to print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, us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%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default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%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splays a number with six digits after the decimal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orc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%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ispla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gits after the decimal point, pu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int the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fit: $2150.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the following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Profit: $%.2f\n", profi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6930-1874-4EF2-A45A-7609E1754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inting the Value of a Variable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85800" y="15235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no limit to the number of variables that can be printed by a single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Height: %d  Length: %d\n"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CB6B-B22D-4EEA-91AA-EDB8A96FA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ogram: Computing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Dimensional Weight of a Box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hipping companies often charge extra for boxes that are large but very light, basing the fee on volume instead of weigh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usual method to compute the “dimensional weight” is to divide the volume by 166 (the allowable number of cubic inches per poun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dweight.c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gram computes the dimensional weight of a particular box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s: 12x10x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(cubic inches): 96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al weight (pounds): 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EF90-CD20-4451-ABDF-532718C72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ogram: Computing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Dimensional Weight of a Box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Division is represented by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in C, so the obvious way to compute the dimensional weight would b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= volume / 166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n C, however, when one integer is divided by another, the answer is “truncated”: all digits after the decimal point are los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volume of a 1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× 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× 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ox will be 960 cubic inch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viding by 166 gives 5 instead of 5.783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8083-C3AE-43C2-941A-BAE1228E0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ogram: Computing the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Dimensional Weight of a Box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solution is to add 165 to the volume before dividing by 16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= (volume + 165) / 16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olume of 166 would give a weight of 331/166, or 1, while a volume of 167 would yield 332/166, or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3061-94B5-4B28-AA25-C612F8841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 txBox="1"/>
          <p:nvPr/>
        </p:nvSpPr>
        <p:spPr>
          <a:xfrm>
            <a:off x="685440" y="761760"/>
            <a:ext cx="79246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weight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omputes the dimensional weight of a 12" x 10" x 8" box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vo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eight, length, width, volume, weigh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 = 8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 = 1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= height * length * width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= (volume + 165) / 166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Dimensions: %dx%dx%d\n", length, width, he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Volume (cubic inches): %d\n", volu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Dimensional weight (pounds): %d\n", weigh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C289-AC6F-4429-93D1-10253C651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Initializ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variables are automatically set to zero when a program begins to execute, but most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variable that doesn’t have a default value and hasn’t yet been assigned a value by the program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ninitializ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ing to access the value of an uninitialized variable may yield an unpredictable res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some compilers, worse behavior—even a program crash—may occu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DE9E-75F9-4FDD-8EFF-A00DB57AA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Initialization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itial value of a variable may be included in its decla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eight = 8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u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itializ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number of variables can be initialized in the same declar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eight = 8, length = 12, width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variable requires its own initializ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eight, length, width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initializes only width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B0CD-CE43-457C-B798-3A99731BA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inting Expression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685800" y="15235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display the value of any numeric expres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= height * length * width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%d\n", volum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ld be replaced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%d\n", height * length * width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62888-7093-45E6-B7EC-B1E811CE2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ompiling and Linking Using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Courier New"/>
              </a:rPr>
              <a:t>cc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compile and link 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n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 under UNIX, enter the following command in a terminal or command-line wind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 cc pun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haracter is the UNIX prom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ing is automatic when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; no separate link command is necess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9B29D-4029-47BA-AF29-C724AAD49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Reading Inpu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C library’s counterpart to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quire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ormat 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pecify the appearance of the input da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read a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"%d", &amp;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reads an integer; stores into i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ymbol is usually (but not always) required when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84FF-D368-4106-AE95-4319AF518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Reading Inpu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ding a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lue requires a slightly different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"%f", &amp;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"%f"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ell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look for an input value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at (the number may contain a decimal point, but doesn’t have t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32054-479F-4C7C-8899-4D78A5B99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ogram: Computing the Dimensional Weight of a Box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weight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n improved version of the dimensional weight program in which the user enters the dimen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mmediately preceded by a call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displays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omp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7B55-66E4-43EE-82E6-6CCD75F3B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380520" y="761760"/>
            <a:ext cx="861084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weight2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omputes the dimensional weight of a box from input provided by the user *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voi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height, length, width, volume, weigh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Enter height of box: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"%d", &amp;h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Enter length of box: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"%d", &amp;lengt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Enter width of box: 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"%d", &amp;width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= height * length * width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= (volume + 165) / 166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Volume (cubic inches): %d\n", volum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Dimensional weight (pounds): %d\n", weight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6E39-E937-41B9-92AD-B2A8793AC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ogram: Computing the Dimensional Weight of a Box (Revisited)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output of progra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height of box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length of box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width of box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me (cubic inches): 9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mensional weight (pounds):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at a prompt shouldn’t end with a new-line charac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79EE-D3F9-4293-812C-264105F9C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Defining Names for Consta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weight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weight2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ly on the constant 166, whose meaning may not be clear to someone reading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a feature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cro definition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name this consta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INCHES_PER_POUND 1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95521-84B0-4F93-8C48-E1E5A98D7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Defining Names for Consta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152280" y="152352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program is compiled, the preprocessor replaces each macro by the value that it repres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preprocessing, th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= (volume + INCHES_PER_POUND - 1) / INCHES_PER_POUN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eight = (volume + 166 - 1) / 16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B3C1-971F-4127-A186-F11F2803A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Defining Names for Consta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lue of a macro can be an express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RECIPROCAL_OF_PI (1.0f / 3.14159f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it contains operators, the expression should be enclosed in parenth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nly upper-case letters in macro names is a common conven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88FA-8AF4-4170-98E1-2525E39C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ogram: Converting from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Fahrenheit to Celsiu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elsius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gram prompts the user to enter a Fahrenheit temperature; it then prints the equivalent Celsius temper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e program outp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ter Fahrenheit temperature: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elsius equivalent: 10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will allow temperatures that aren’t integ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813B-AC6E-4D7A-940A-83AD11B7D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685800" y="7617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elsius.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onverts a Fahrenheit temperature to Celsiu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FREEZING_PT 32.0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CALE_FACTOR (5.0f / 9.0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vo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fahrenheit, celsiu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Enter Fahrenheit temperature: 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"%f", &amp;fahrenheit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elsius = (fahrenheit - FREEZING_PT) * SCALE_FACT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elsius equivalent: %.1f\n", celsiu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A4E9-9DE8-4ACC-8D2D-4A81D1A00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ompiling and Linking Using </a:t>
            </a:r>
            <a:r>
              <a:rPr b="1" lang="en-US" sz="3200" spc="-1" strike="noStrike">
                <a:solidFill>
                  <a:srgbClr val="b82f25"/>
                </a:solidFill>
                <a:latin typeface="Courier New"/>
                <a:ea typeface="Courier New"/>
              </a:rPr>
              <a:t>cc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compiling and linking the program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eaves the executable program in a file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.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defaul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-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ption lets us choose the name of the file containing the executabl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command causes the executable vers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n.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name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u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 cc -o pun pun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763E-0A3A-443C-AEE0-57DF9B88D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ogram: Converting from</a:t>
            </a:r>
            <a:br>
              <a:rPr sz="3200"/>
            </a:b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Fahrenheit to Celsiu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685440" y="15998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LE_FACT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5.0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9.0f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stead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9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impor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 the use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%.1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displa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elsi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just one digit after the decimal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913F-B686-45C6-8EC9-E6E66E03C6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Identifi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for variables, functions, macros, and other entities are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dentif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dentifier may contain letters, digits, and underscores, but must begin with a letter or undersco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imes10  get_next_char  _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usually best to avoid identifiers that begin with an undersc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of illegal identifi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times  get-next-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6035-0B80-4FA6-B092-5105639BA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Identifi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ase-sensitiv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t distinguishes between upper-case and lower-case letters in identifi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, the following identifiers are all differ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ob  joB  jOb  jOB  Job  JoB  JOb  J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6574-AE6A-486E-99BA-F90C3A48F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Identifier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programmers use only lower-case letters in identifiers (other than macros), with underscores inserted for legi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symbol_table  current_page  name_and_addr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programmers use an upper-case letter to begin each word within an identif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  <a:ea typeface="Courier New"/>
              </a:rPr>
              <a:t>symbolTable  currentPage  nameAndAddres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places no limit on the maximum length of an identifi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16B5-7DDE-412A-BC4A-D6D40C473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Keyword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’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used as identifi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uto      enum      restrict*  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     extern    return     vo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se      float     short      volat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     for       signed     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    goto      sizeof     _Bool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e  if        static     _Complex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ault   inline*   struct     _Imaginary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        int      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    long      typede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      register  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C99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8B91-EC11-4EBA-8939-67569FA80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Keyword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words (with the exception of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_B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_Comple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_Imagin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must be written using only lower-case le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of library functions (e.g.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re also lower-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E43B-D6F0-41DE-A3C0-4722EFA89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Layout of a C Progr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 program is a series of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ok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kens inclu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lit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67B3-CB6D-44F0-86EE-052921A66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Layout of a C Progr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Height: %d\n", heigh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seven toke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Height: %d\n"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li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e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nc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233F-FEF3-454D-BA9B-10CFCE16C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Layout of a C Progr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228600" y="15235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amount of space between tokens usually isn’t critic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 one extreme, tokens can be crammed together with no space between them, except where this would cause two tokens to merg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/* Converts a Fahrenheit temperature to Celsius */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FREEZING_PT 32.0f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CALE_FACTOR (5.0f/9.0f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void){float fahrenheit,celsius;printf(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"Enter Fahrenheit temperature: ");scanf("%f", &amp;fahrenheit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celsius=(fahrenheit-FREEZING_PT)*SCALE_FACTOR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Celsius equivalent: %.1f\n", celsius);return 0;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2AA4-CC23-4942-9212-50FB3405F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Layout of a C Progr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hole program can’t be put on one line, because each preprocessing directive requires a separat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essing programs in this fashion isn’t a good id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act, adding spaces and blank lines to a program can make it easier to read and underst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E5C8-2B78-462B-8091-1D7389950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The GCC Compiler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CC is one of the most popular C compil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CC is supplied with Linux but is available for many other platforms as we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this compiler is similar to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 gcc -o pun pun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769B-A555-416E-BAA5-8F661C54E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Layout of a C Progr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allows any amount of space—blanks, tabs, and new-line characters—between tok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uences for program layo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ments can be di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 any number of l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ace between token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uch as before and after each operator, and after each comma) makes it easier for the eye to separ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nt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make nesting easier to sp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lank lin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divide a program into logical un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557C-965A-4C29-9278-A34B168CE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Layout of a C Progr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685440" y="15235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hough extra spaces can be added between tokens, it’s not possible to add space within a token without changing the meaning of the program or causing an err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l oat fahrenheit, celsius;  /*** WRONG **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oat fahrenheit, celsius;     /*** WRONG ***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n error when the program is comp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C881-FA44-4662-8771-474727837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Layout of a C Progr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a space inside a string literal is allowed, although it changes the meaning of the 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a new-line character in a string (splitting the string over two lines) is illeg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To C, or not to 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at is the question.\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*** WRONG **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5487-E1BC-42AD-BEA7-549739415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Integrated Development Environment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tegrated development environment (ID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 software package that makes it possible to edit, compile, link, execute, and debug a program without leaving the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BC1C-4D9F-4F5F-9DC7-5EE0C7359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The General Form of a Simple Progr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C programs have the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r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main(vo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84C5-8E5B-47EF-B9FF-FD11BBEA8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The General Form of a Simple Program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use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much the same way that some other languages use words 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the simplest C programs rely on three key language featu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D338-8732-4540-9766-4FA2B703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 </cp:lastModifiedBy>
  <cp:lastPrinted>1999-11-08T20:52:53Z</cp:lastPrinted>
  <dcterms:modified xsi:type="dcterms:W3CDTF">2008-06-15T21:39:50Z</dcterms:modified>
  <cp:revision>1080</cp:revision>
  <dc:subject/>
  <dc:title>No Slide Title</dc:title>
</cp:coreProperties>
</file>